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27C4-B83E-4419-8DB0-FA90E3047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C9CA-7E23-49D9-977A-3DE0BAC24D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6A7A-9453-4D93-9E04-504DDF65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BD86-F6DA-45FE-B9B2-F07FC161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904F-37EE-46C8-95D6-0467D5AB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15C0-B618-4C5B-9E08-B8F2954C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5E77-5538-4B5E-8A68-79343A31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6B84-79A6-4BFD-AC70-86A8137D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7208-97DE-4BCA-BF65-D0D25CD4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5B1F-878D-49C1-8852-D82C91DC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F850-67F0-4DB9-BB85-402888C4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796D-B659-4AA7-8BD0-EBDE7DF5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001D-51C5-49F5-A197-F3118BF2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C9BB-184F-474B-A963-1EBBAFF1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A6A8-1938-4A0A-ABBA-7FEFBFDC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884A-C43B-4D04-A38E-03134FBA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61F2-777B-4B69-BD7E-1A371499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BD05-2014-45B1-8EF4-6028C0F8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A6BC-8D21-4A46-9509-4AF472D5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2DEC9-314D-4B85-9586-C1EA6F9C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BF4D5-33A0-4E96-B76B-3CA6805F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455A9D-FEBC-4EB0-9CF8-2F9BD0D4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AD04C1-460B-443B-A775-9059E5ED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B56093-72CB-4B2E-A2FE-AD777E59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97AC-395F-49AB-9E72-271285ED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89DB36-BB21-427C-BCA8-11B43255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8A070-B821-4CAE-9DD8-A801E6A7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CA5C0F-94BE-4D32-A8A7-57F3B115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43BA3C-D3E1-4124-9C7D-E56A662E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A5994A-6009-4E9D-91A5-ED883501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D70D90-783C-46A9-9B90-CAF9425A6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36D74D-D324-4632-9C97-5C5A2630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860B-2B40-48A1-9A8F-1B4A6324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0731-C9B3-4542-9D27-334DD091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F90A-DC2F-4624-AAC4-5FAC8E48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CAC9-5ACF-4378-9C4C-A352793C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D2CF-18FE-4C54-AAAA-E8DDDF7C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B852-2C40-4BD6-AE07-DF2A056F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0566-0E0F-4F0C-B067-D5B916A0E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0948-4CA4-4A03-9A1C-D9BEA9DAF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50B6-36E7-4380-8811-CD8323CD99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Freshme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. 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 new 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ion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chaeologist Leonard wooley set out in 1922 to look for Ur a city mentioned in the bible, Ur was the origenal home of abraham the father of the hebrew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e:raisin::plum: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oc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zation-the method used by a writer to develop a character. The method inclu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) showing the character's appearance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2) displaying the character's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3) revealing the character's thou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4) letting the character spe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5) getting the reactions of oth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cond Foc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533520" y="1790640"/>
            <a:ext cx="80769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onfli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plots develop around a conflict, or struggle between two or more forces in a s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rnal conflict is the battle between a character and an outside force—nature, society, fate, or another charac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 conflict is the battle within the mind of a character who is torn between differe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rses of 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aslon540 BT"/>
              </a:rPr>
              <a:t>Connecting to the Sto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6" descr="jealousy"/>
          <p:cNvPicPr/>
          <p:nvPr/>
        </p:nvPicPr>
        <p:blipFill>
          <a:blip r:embed="rId1"/>
          <a:stretch/>
        </p:blipFill>
        <p:spPr>
          <a:xfrm>
            <a:off x="7162920" y="4114800"/>
            <a:ext cx="1301760" cy="18669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380880" y="2057400"/>
            <a:ext cx="65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uld you trust your life to a friend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is a stronger emotion—love or jealous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completely can one person ever know and understand an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990720" y="457200"/>
            <a:ext cx="7010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The Lady, or The Tiger?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ank Stock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10" descr="Love"/>
          <p:cNvPicPr/>
          <p:nvPr/>
        </p:nvPicPr>
        <p:blipFill>
          <a:blip r:embed="rId2"/>
          <a:stretch/>
        </p:blipFill>
        <p:spPr>
          <a:xfrm>
            <a:off x="6629400" y="1523880"/>
            <a:ext cx="186696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ssign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short paragraph about a time you had to make a tough deci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5:59:59Z</dcterms:created>
  <dc:creator>VMS</dc:creator>
  <dc:description/>
  <dc:language>en-US</dc:language>
  <cp:lastModifiedBy>Angie McCall</cp:lastModifiedBy>
  <dcterms:modified xsi:type="dcterms:W3CDTF">2012-09-17T19:58:19Z</dcterms:modified>
  <cp:revision>10</cp:revision>
  <dc:subject/>
  <dc:title>Freshmen</dc:title>
</cp:coreProperties>
</file>